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11594-D9D1-4AC3-ADA8-66A7789D8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1AA2E-04EE-43FC-BABE-4F3C56B03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15539-44DB-4F14-BB09-2194D8089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D8C7D-EC20-472C-9D05-9A7644310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45A22-6841-4E2F-9D95-E75B2DF8D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9931A-1A68-4DF6-AD44-396DFC639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3EC14-6BCF-4113-A434-2F068E4AA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27158-DEF7-4C3B-84A1-0FDBFB81E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94F39-C7B7-4672-8117-37CC7A7A0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52604-F8A7-4999-88A2-969CD3FAD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3CA98-773C-4447-9BE2-7DAFA8E06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13DAB-4E51-4953-9EC4-7F801A5B23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EA7B8-7AEC-40B3-B5B6-21E1229F582B}" type="slidenum">
              <a:rPr b="0" lang="nb-N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Human Trafficking – Modern Day Slavery</a:t>
            </a:r>
            <a:br>
              <a:rPr sz="3200"/>
            </a:br>
            <a:r>
              <a:rPr b="0" lang="nb-NO" sz="2400" spc="-1" strike="noStrike">
                <a:solidFill>
                  <a:srgbClr val="000000"/>
                </a:solidFill>
                <a:latin typeface="Arial"/>
              </a:rPr>
              <a:t>English Subject Curriculum</a:t>
            </a:r>
            <a:endParaRPr b="0" lang="en-US" sz="2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ulture, society and literatu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he aims of the studies are to enable pupils t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laborate on and discuss a number of international and global challen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How Are Victims Controlled by the Traffickers?</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Victims are controlled by thei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traffickers in many way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Beating, starving, and raping their victim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Removal of passports, ID cards, and other document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Isolating victims by keeping them locked up and not allowing any outside contac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Subjecting victims to debt bondage, i.e. making them work to pay off debt they are told they owe for travelling and living expens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Forcing them to take drug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Threatning them and their families with injury and death</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Threatning to shame them by telling the victim’s family or friends what they are doing</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PlaceHolder 3"/>
          <p:cNvSpPr>
            <a:spLocks noGrp="1"/>
          </p:cNvSpPr>
          <p:nvPr>
            <p:ph/>
          </p:nvPr>
        </p:nvSpPr>
        <p:spPr>
          <a:xfrm>
            <a:off x="5105520" y="1600200"/>
            <a:ext cx="403848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9" name="Picture 15" descr="oneviet_human_trafficking_1106"/>
          <p:cNvPicPr/>
          <p:nvPr/>
        </p:nvPicPr>
        <p:blipFill>
          <a:blip r:embed="rId1"/>
          <a:stretch/>
        </p:blipFill>
        <p:spPr>
          <a:xfrm>
            <a:off x="5143680" y="1830240"/>
            <a:ext cx="3047760" cy="406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Why Do People Fall Victim to Human Trafficking?</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Poverty</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Unemployment</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busive family situation</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Lack of education</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Lack of economic opportunities in general</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ception by people they trust</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rmed conflict or war situations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onsumerism – hunger for material well being, fuelled by media – create a desire or need for more money</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ope for a better life – to fulfill their dreams</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c.</a:t>
            </a:r>
            <a:endParaRPr b="0" lang="en-US" sz="1800" spc="-1" strike="noStrike">
              <a:solidFill>
                <a:srgbClr val="000000"/>
              </a:solidFill>
              <a:latin typeface="Arial"/>
            </a:endParaRPr>
          </a:p>
        </p:txBody>
      </p:sp>
      <p:pic>
        <p:nvPicPr>
          <p:cNvPr id="72" name="Picture 5" descr="AC33BA38-4B8C-4E6F-A8EA-9ADE25487976_traffickingbig"/>
          <p:cNvPicPr/>
          <p:nvPr/>
        </p:nvPicPr>
        <p:blipFill>
          <a:blip r:embed="rId1"/>
          <a:stretch/>
        </p:blipFill>
        <p:spPr>
          <a:xfrm>
            <a:off x="5238720" y="2671920"/>
            <a:ext cx="2857680" cy="2381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By Nina Sandström Angelsen</a:t>
            </a:r>
            <a:endParaRPr b="0" lang="en-US" sz="2000" spc="-1" strike="noStrike">
              <a:solidFill>
                <a:srgbClr val="000000"/>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elbu videregående sk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Human Traffickin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is human traffick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illegal and criminal trade in human beings carried out by criminals who by force deprive men, women and children of their freedom and turn them into slaves, making them work or provide various services without their consent (and p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uman trafficking can take place across national borders as well as within a country</a:t>
            </a:r>
            <a:endParaRPr b="0" lang="en-US" sz="2000" spc="-1" strike="noStrike">
              <a:solidFill>
                <a:srgbClr val="000000"/>
              </a:solidFill>
              <a:latin typeface="Arial"/>
            </a:endParaRPr>
          </a:p>
        </p:txBody>
      </p:sp>
      <p:pic>
        <p:nvPicPr>
          <p:cNvPr id="45" name="Picture 7" descr="untitled n"/>
          <p:cNvPicPr/>
          <p:nvPr/>
        </p:nvPicPr>
        <p:blipFill>
          <a:blip r:embed="rId1"/>
          <a:stretch/>
        </p:blipFill>
        <p:spPr>
          <a:xfrm>
            <a:off x="4843440" y="2004840"/>
            <a:ext cx="3648240" cy="371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Arial"/>
              </a:rPr>
              <a:t>A UN Definition of Human Trafficking</a:t>
            </a:r>
            <a:r>
              <a:rPr b="0" lang="nb-NO"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United Nations (UN) defi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uman trafficking 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he recruitment, transportation, transfer, harbouring, or receipt of persons </a:t>
            </a:r>
            <a:r>
              <a:rPr b="1" i="1" lang="en-GB" sz="2000" spc="-1" strike="noStrike">
                <a:solidFill>
                  <a:srgbClr val="000000"/>
                </a:solidFill>
                <a:latin typeface="Arial"/>
              </a:rPr>
              <a:t>(the movement)</a:t>
            </a:r>
            <a:r>
              <a:rPr b="0" i="1" lang="en-GB"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By means of threat or use of force, or other forms of coercion, of abduction, of fraud, of deception, of abuse of power or a position of vulnerability or of the giving or receiving of payments or benefits to achieve the consent of a person having control over another person </a:t>
            </a:r>
            <a:r>
              <a:rPr b="1" i="1" lang="en-GB" sz="2000" spc="-1" strike="noStrike">
                <a:solidFill>
                  <a:srgbClr val="000000"/>
                </a:solidFill>
                <a:latin typeface="Arial"/>
              </a:rPr>
              <a:t>(the means)</a:t>
            </a:r>
            <a:r>
              <a:rPr b="0" i="1" lang="en-GB"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For the purpose of exploitation. Exploitation includes, at a minimum, the exploitation of the prostitution of others or other forms of sexual exploitation, forced labour or services, slavery or practices similar to slavery, servitude or the removal of organs </a:t>
            </a:r>
            <a:r>
              <a:rPr b="1" i="1" lang="en-GB" sz="2000" spc="-1" strike="noStrike">
                <a:solidFill>
                  <a:srgbClr val="000000"/>
                </a:solidFill>
                <a:latin typeface="Arial"/>
              </a:rPr>
              <a:t>(the purpose)</a:t>
            </a:r>
            <a:r>
              <a:rPr b="0" i="1" lang="en-GB"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Scope of the Problem</a:t>
            </a:r>
            <a:br>
              <a:rPr sz="4400"/>
            </a:br>
            <a:r>
              <a:rPr b="0" lang="en-GB" sz="2000" spc="-1" strike="noStrike">
                <a:solidFill>
                  <a:srgbClr val="000000"/>
                </a:solidFill>
                <a:latin typeface="Arial"/>
              </a:rPr>
              <a:t>How Many Fall Victim to Human Trafficking?</a:t>
            </a:r>
            <a:endParaRPr b="0" lang="en-US" sz="2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e to the illegal nature of this kind of criminal activity, it is difficult to give an accurate estima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 believe that 4 million people fell victim to human trafficking in 2006</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US Government estimates that 800.000-900.000 people are trafficked across borders every yea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3 of those trafficked into the USA every year are children</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fficking in human beings is the third largest illegal activity in the world, only surpassed by the trafficking of drugs and weapons - some believe that it will soon surpass both illegal trade in drug and weap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Who Are the Victim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en, women and childr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he majority of victims are believed to be women and children – a majority of these are believed to end up as sex work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ost of the victims are poor, unemployed and/or uneducated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any are from Eastern Europe, Asia or Afric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Picture 8" descr="2007-12-12-women75457973-copy"/>
          <p:cNvPicPr/>
          <p:nvPr/>
        </p:nvPicPr>
        <p:blipFill>
          <a:blip r:embed="rId1"/>
          <a:stretch/>
        </p:blipFill>
        <p:spPr>
          <a:xfrm>
            <a:off x="5238720" y="1909800"/>
            <a:ext cx="2857680" cy="390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Who Are the Trafficker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uman traffickers may b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rt of a local, national or international criminal groups or organization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tworks of organized crim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ividual freelancer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ffickers are not alway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rang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ople are often ”trafficked” by someone they know:</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ent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andparent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cles and aunt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family members and relative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yfriend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ouses (ektefeller)</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neighbour</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friend or acquaintance</a:t>
            </a:r>
            <a:endParaRPr b="0" lang="en-US" sz="1400" spc="-1" strike="noStrike">
              <a:solidFill>
                <a:srgbClr val="000000"/>
              </a:solidFill>
              <a:latin typeface="Arial"/>
            </a:endParaRPr>
          </a:p>
        </p:txBody>
      </p:sp>
      <p:pic>
        <p:nvPicPr>
          <p:cNvPr id="55" name="Picture 7" descr="683887-Grandmother-Hungary"/>
          <p:cNvPicPr/>
          <p:nvPr/>
        </p:nvPicPr>
        <p:blipFill>
          <a:blip r:embed="rId1"/>
          <a:stretch/>
        </p:blipFill>
        <p:spPr>
          <a:xfrm>
            <a:off x="4648320" y="18432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How Do People Become Victims of Human Trafficking?</a:t>
            </a:r>
            <a:endParaRPr b="0" lang="en-US" sz="2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ey are deceived by false promises of:</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 good job</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n educatio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 marriag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 better life</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ey are kidnapped or abduct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ey are sold by:</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family member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friend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cquaintanc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neighbour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boyfriends (girlfriends?)</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10" descr="human_trafficking"/>
          <p:cNvPicPr/>
          <p:nvPr/>
        </p:nvPicPr>
        <p:blipFill>
          <a:blip r:embed="rId1"/>
          <a:stretch/>
        </p:blipFill>
        <p:spPr>
          <a:xfrm>
            <a:off x="5226120" y="1600200"/>
            <a:ext cx="28828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What Happens to Victims of Human Trafficking? Part I</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ex industr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ny are sold into the sex industry where they are forced to work 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stitute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rippe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tors in pornographic film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icipants in live-sex show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tc.</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ced labour:</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mestic servants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riculture – farm worke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ldiers (African childre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eatsho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ctorie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egging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taurant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restry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tc.</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3"/>
          <p:cNvSpPr>
            <a:spLocks noGrp="1"/>
          </p:cNvSpPr>
          <p:nvPr>
            <p:ph/>
          </p:nvPr>
        </p:nvSpPr>
        <p:spPr>
          <a:xfrm>
            <a:off x="510552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Picture 10" descr="s-0884"/>
          <p:cNvPicPr/>
          <p:nvPr/>
        </p:nvPicPr>
        <p:blipFill>
          <a:blip r:embed="rId1"/>
          <a:stretch/>
        </p:blipFill>
        <p:spPr>
          <a:xfrm>
            <a:off x="5316480" y="1600200"/>
            <a:ext cx="270216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What Happens to Victims of Human Trafficking? Part II</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Involuntary human organ donor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People are abducted and harvested for vital organs such as:</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Kidney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Liver</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Heart</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Lung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yeballs </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tc.</a:t>
            </a:r>
            <a:endParaRPr b="0" lang="en-US" sz="12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bducted and sold off as brid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Young girls in Asia, especially in the rural parts of China, are abducted and sold off as brides to bachelors</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bduction of children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n China a large number of children are abducted every year</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any of them are sold to childless coupl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5" name="Picture 11" descr="untitled j"/>
          <p:cNvPicPr/>
          <p:nvPr/>
        </p:nvPicPr>
        <p:blipFill>
          <a:blip r:embed="rId1"/>
          <a:stretch/>
        </p:blipFill>
        <p:spPr>
          <a:xfrm>
            <a:off x="5089680" y="1600200"/>
            <a:ext cx="315576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ina</cp:lastModifiedBy>
  <dcterms:modified xsi:type="dcterms:W3CDTF">2009-11-30T23:45:59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